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E56-AC65-4A22-A7A6-8D11B50B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4FA-03BA-4578-AD57-6844DB5D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AE5A-7A9C-412D-9D03-BADBF0F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AE0AA-9728-4326-B3B8-16CFE3B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52368-966A-4328-8F08-C6CA591C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CB99-8334-4BE2-881C-4E23D5D2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11602-018C-4DED-B903-7808529E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536CD-C40B-435E-BBF8-65B7772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9933A-8272-491F-A7BF-5F5DADBE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4A19-2597-4853-B473-48AD863C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7080-88AD-40EB-A7FB-06AB786A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99B-E77F-4661-BFA5-6331438C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9DC-339A-43E1-916F-541BC51B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6AD-1BFF-4248-B548-8E4E292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98B-975F-440F-AEED-92FEC14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3B7-E092-470E-9ECE-6081D878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0F52-FD02-4284-A17C-0377BFFC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1132-89FB-47F8-B4F5-967E1C8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E8E2-FE84-482A-A77D-0131B6E8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9752-B694-433B-8082-6D227BA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2A6-FA72-4546-8E66-DC39505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3D80-1B65-4437-8773-9825FD7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6F48-175F-42DA-B5F3-2DD3E4C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9A3-A2FE-41CF-8AFC-33E454D4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136A-CD5A-43AC-8E20-D9350066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0BD3-C739-49EC-911B-E10884CF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6F4B-7F21-4121-AA7F-0FCB7357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2CE9-E9A7-4C67-9CAA-508B08B6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0582-5AAE-4F7B-94FD-27722CF6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E40E-B644-4ECF-985A-2C155CA1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202F-4660-4FA7-AF2D-71C377A5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AE7-99D0-406A-90E7-444B8DA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C93F-56F3-44A6-9AF4-9DDFA9A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8FD0-3F37-43AB-AD0A-035C69D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46C9-0567-4BD8-B5B5-4847431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1247-0435-48C7-B7BB-0D9E9EA8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C486-637E-49FC-9070-3458E189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AF49-D0E1-4BC8-A201-6F5A329C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03AE-D1C6-4899-B890-D4CEE989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9BDE-1D59-4631-BA45-EAE0373D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F723-797D-4B8B-8612-DF1CC8F7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1A39-9557-4129-ADB7-0A33C0F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705-E7F8-4CBE-9AA9-5908083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10CE-1794-4A35-8CD4-9FBE3E4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47EE-ED3C-40A2-80B0-5B76409E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922A-890E-4E76-844A-39F2263E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2C48-8DA1-4389-8B7D-010256C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C41C-9D40-4A12-9557-7A2B794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456A-EC36-4B9F-BFAB-A68EBBD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A263-8F8A-495B-BC3C-F50CD0BE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E212-848C-4527-964A-EF5838A4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2194-E3FD-4A49-853E-ABBA128A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F341-C8A6-47CC-A59C-B599912A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039-711D-4F41-97DA-B9FBD40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0F76-BAEC-431C-9979-9E74B7E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FB36-6C96-42B0-9FC6-9756575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7CD5F-5598-4E02-8FAB-A6F1F7A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313A-6DE7-4739-A50A-517A79AA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A010-0A8E-4BCA-9BBB-A29B43C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A5093-6171-4474-83DF-DB33371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C628D-7297-41AE-8AFE-523917E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9566-B40D-4F14-A2A1-8EEDB9E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7FF17-9E9F-4CB7-9627-63960B8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D9096-C85C-47B6-8AEA-9961FCFE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9D2-CF55-4297-A9DB-6D3641A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DE591-8F8D-47A3-ADF6-76A887F1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A110-3FC2-4683-9EC5-6EFBDFB3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E2E0-5014-43F6-83C2-8AB69F4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2EB3-76B5-4217-83E6-0D90A3A2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21058-00A6-4F8C-AA8F-F1A6185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7A02-E552-458F-9850-554927D1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186EB-D79A-4F5D-AB91-E3A5ABBF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C614-EC1F-4F78-8B90-2D85864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3B6C-E900-4CF2-8585-65D8A7D7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B3DC-7F57-44D0-B17B-5CC1728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0E6-71F1-402B-9F91-CD7DA4B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A815C-3EBD-4AE6-BD40-4523055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B9DA-4D63-40B1-B2AD-71193D95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F369-5B1E-42D2-B472-4E9D75D2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EC12-027F-4656-92CD-E347B8F3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ED8F9-1E87-416D-B099-A9B01A9B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2A478-5229-4617-B55B-072C51E7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5927-271D-4574-8F5C-6DDB747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9D51-97E0-4CF8-9DE4-8ACA0F36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0CB3D-4EB5-451B-835C-CB2B893F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8E1D8-7BDF-4CD9-923B-6626FC5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6C1-4F65-4A6D-BEF2-AA023BE4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BD1B-F8AA-4558-8949-3EF974C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1D6B-CD23-492D-A977-D091DF8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288DA-5090-4FC3-922D-236104D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9B73A-5B77-48B4-9293-6ADC4923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9AF1-C26F-46DD-A0E4-129E5C88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D52AE-40AD-40B2-A624-E5D3B45D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085D-BE87-4664-A807-8410382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D703-A41F-4C52-B511-65F7A3B3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B5CA-7B27-45A0-A32A-1EFE640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61296-3380-4336-8854-21473F22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7D9-3CE0-4492-8DD4-0EF925F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CB878-D959-429F-AE3E-7AA1C8E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06177-2EE3-4BCA-AFD6-DB048FB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45C02-5F7E-497C-94E9-F808AF26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65C57-DE3F-4728-B1D3-A1B5D70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D1CC-022F-475D-8E12-2918C8F4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25B05-70C5-4960-9658-2DFA4362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D81A2-CFEE-4975-9009-E3FFE642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69E64-A26F-459B-9E98-6CF3DE09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A26BF-3ABD-4BB7-8ABC-7D0C708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AF917-24A2-4455-8B9E-C8CC768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78F-BAC0-4B92-BB8F-A1EC6A2C3D9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8D47-BF12-4FAD-9D98-646F614CEC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2DD-06F7-4C2F-B036-2EF629BA22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D916-3274-4C12-8DD6-9532292DCA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9D4-4D7F-43BA-AF27-061FCE9E87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9AB-EAC3-4885-AADF-11E03392695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AFB5-6510-4E7D-AF8E-8485BBEA76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C149-9AC8-48D9-88F7-6E8042E1AE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E27-E656-4203-AACB-6C3A3C8FDB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flower.onego.ru/lukov/enc_0781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0" y="1628640"/>
            <a:ext cx="4211640" cy="5230800"/>
          </a:xfrm>
          <a:prstGeom prst="rect">
            <a:avLst/>
          </a:prstGeom>
          <a:gradFill rotWithShape="0">
            <a:gsLst>
              <a:gs pos="0">
                <a:srgbClr val="fbeec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7"/>
          <p:cNvSpPr txBox="1"/>
          <p:nvPr/>
        </p:nvSpPr>
        <p:spPr>
          <a:xfrm rot="20871600">
            <a:off x="684360" y="2133720"/>
            <a:ext cx="612108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ec9"/>
                    </a:gs>
                    <a:gs pos="100000">
                      <a:srgbClr val="000000"/>
                    </a:gs>
                  </a:gsLst>
                  <a:lin ang="6126000"/>
                </a:gradFill>
                <a:latin typeface="Mistral"/>
              </a:rPr>
              <a:t>- наркотики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ec9"/>
                  </a:gs>
                  <a:gs pos="100000">
                    <a:srgbClr val="000000"/>
                  </a:gs>
                </a:gsLst>
                <a:lin ang="6126000"/>
              </a:gradFill>
              <a:latin typeface="Mistral"/>
              <a:ea typeface="Mistral"/>
            </a:endParaRPr>
          </a:p>
        </p:txBody>
      </p:sp>
      <p:pic>
        <p:nvPicPr>
          <p:cNvPr id="401" name="Picture 8" descr="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1221120"/>
          </a:xfrm>
          <a:prstGeom prst="rect">
            <a:avLst/>
          </a:prstGeom>
          <a:ln w="0">
            <a:noFill/>
          </a:ln>
        </p:spPr>
      </p:pic>
      <p:sp>
        <p:nvSpPr>
          <p:cNvPr id="402" name="WordArt 6"/>
          <p:cNvSpPr txBox="1"/>
          <p:nvPr/>
        </p:nvSpPr>
        <p:spPr>
          <a:xfrm>
            <a:off x="826920" y="981000"/>
            <a:ext cx="51850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0af"/>
                    </a:gs>
                    <a:gs pos="100000">
                      <a:srgbClr val="f2a60e"/>
                    </a:gs>
                  </a:gsLst>
                  <a:lin ang="5400000"/>
                </a:gradFill>
                <a:latin typeface="Tahoma"/>
              </a:rPr>
              <a:t>Имя бе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0af"/>
                  </a:gs>
                  <a:gs pos="100000">
                    <a:srgbClr val="f2a60e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3203640" y="4437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Боже, дай мне разум и душевный покой.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Принять то, что я не в силах изменить.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Мужество изменить то, что я могу.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И мудрость отличить одно от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463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Book"/>
              </a:rPr>
              <a:t>Наркоманы плохие работники.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Book"/>
              </a:rPr>
              <a:t>Наркоманы думают только лишь о наркотиках и как бы их добыть.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Book"/>
              </a:rPr>
              <a:t>Из-за наркоманов происходит слишком много случаев на транспорте, в производстве, вызывая аварии.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Book"/>
              </a:rPr>
              <a:t>Создают невыносимые условия для своей семьи, лишают семью средств к существованию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Book"/>
              </a:rPr>
              <a:t>Они совершают преступления по отношению в своему потомству. Дети наркоманов имеют врожденную патологию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Book"/>
              </a:rPr>
              <a:t>Наркоманы совершают правонарушения, в поисках наркотика или средств  на его приобретение (воровство, грабежи и.т.д.)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B010-F494-4A8D-915D-65D2CCB4F7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4"/>
          <p:cNvSpPr txBox="1"/>
          <p:nvPr/>
        </p:nvSpPr>
        <p:spPr>
          <a:xfrm>
            <a:off x="395280" y="620640"/>
            <a:ext cx="7534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0af"/>
                    </a:gs>
                    <a:gs pos="100000">
                      <a:srgbClr val="f2a60e"/>
                    </a:gs>
                  </a:gsLst>
                  <a:lin ang="5400000"/>
                </a:gradFill>
                <a:latin typeface="Tahoma"/>
              </a:rPr>
              <a:t>    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0af"/>
                    </a:gs>
                    <a:gs pos="100000">
                      <a:srgbClr val="f2a60e"/>
                    </a:gs>
                  </a:gsLst>
                  <a:lin ang="5400000"/>
                </a:gradFill>
                <a:latin typeface="Tahoma"/>
              </a:rPr>
              <a:t>Уголовная ответственность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0af"/>
                  </a:gs>
                  <a:gs pos="100000">
                    <a:srgbClr val="f2a60e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571680" y="1071720"/>
            <a:ext cx="8189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33"/>
                </a:solidFill>
                <a:uFillTx/>
                <a:latin typeface="Times New Roman"/>
              </a:rPr>
              <a:t>Ст. 228 </a:t>
            </a:r>
            <a:r>
              <a:rPr b="0" i="1" lang="ru-RU" sz="2300" spc="-1" strike="noStrike" u="sng">
                <a:solidFill>
                  <a:srgbClr val="333333"/>
                </a:solidFill>
                <a:uFillTx/>
                <a:latin typeface="Times New Roman"/>
              </a:rPr>
              <a:t>. </a:t>
            </a:r>
            <a:r>
              <a:rPr b="1" i="1" lang="ru-RU" sz="2300" spc="-1" strike="noStrike">
                <a:solidFill>
                  <a:srgbClr val="002060"/>
                </a:solidFill>
                <a:latin typeface="Times New Roman"/>
              </a:rPr>
              <a:t>Незаконное изготовление, приобретение, хранение, пересылка, сбыт наркотических средств или психотропных веще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33"/>
                </a:solidFill>
                <a:latin typeface="Times New Roman"/>
              </a:rPr>
              <a:t>Лишение свободы до 3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33"/>
                </a:solidFill>
                <a:uFillTx/>
                <a:latin typeface="Times New Roman"/>
              </a:rPr>
              <a:t>Ст.229. </a:t>
            </a:r>
            <a:r>
              <a:rPr b="1" lang="ru-RU" sz="2300" spc="-1" strike="noStrike">
                <a:solidFill>
                  <a:srgbClr val="002060"/>
                </a:solidFill>
                <a:latin typeface="Times New Roman"/>
              </a:rPr>
              <a:t>Хищение либо вымогательство наркотических сред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33"/>
                </a:solidFill>
                <a:latin typeface="Times New Roman"/>
              </a:rPr>
              <a:t>Лишение свободы  от 5 до  15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33"/>
                </a:solidFill>
                <a:uFillTx/>
                <a:latin typeface="Times New Roman"/>
              </a:rPr>
              <a:t>Ст. 230. </a:t>
            </a:r>
            <a:r>
              <a:rPr b="1" lang="ru-RU" sz="2300" spc="-1" strike="noStrike">
                <a:solidFill>
                  <a:srgbClr val="002060"/>
                </a:solidFill>
                <a:latin typeface="Times New Roman"/>
              </a:rPr>
              <a:t>Склонение к потреблению наркотических сред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33"/>
                </a:solidFill>
                <a:latin typeface="Times New Roman"/>
              </a:rPr>
              <a:t>Лишение свободы от 5 до 12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33"/>
                </a:solidFill>
                <a:uFillTx/>
                <a:latin typeface="Times New Roman"/>
              </a:rPr>
              <a:t>Ст. 231. </a:t>
            </a:r>
            <a:r>
              <a:rPr b="1" lang="ru-RU" sz="2300" spc="-1" strike="noStrike">
                <a:solidFill>
                  <a:srgbClr val="002060"/>
                </a:solidFill>
                <a:latin typeface="Times New Roman"/>
              </a:rPr>
              <a:t>Незаконное возделывание растений содержащих наркотические вещества.</a:t>
            </a:r>
            <a:r>
              <a:rPr b="1" lang="ru-RU" sz="2300" spc="-1" strike="noStrike">
                <a:solidFill>
                  <a:srgbClr val="333333"/>
                </a:solidFill>
                <a:latin typeface="Times New Roman"/>
              </a:rPr>
              <a:t> Лишение свободы от 2 до 8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33"/>
                </a:solidFill>
                <a:uFillTx/>
                <a:latin typeface="Times New Roman"/>
              </a:rPr>
              <a:t>Ст. 234. </a:t>
            </a:r>
            <a:r>
              <a:rPr b="1" lang="ru-RU" sz="2300" spc="-1" strike="noStrike">
                <a:solidFill>
                  <a:srgbClr val="002060"/>
                </a:solidFill>
                <a:latin typeface="Times New Roman"/>
              </a:rPr>
              <a:t>Незаконный оборот сильно действующих или ядовитых веществ в целях сбы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33"/>
                </a:solidFill>
                <a:latin typeface="Times New Roman"/>
              </a:rPr>
              <a:t>Лишение свободы от 3 до 8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2554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8" descr="передозировка"/>
          <p:cNvPicPr/>
          <p:nvPr/>
        </p:nvPicPr>
        <p:blipFill>
          <a:blip r:embed="rId2"/>
          <a:stretch/>
        </p:blipFill>
        <p:spPr>
          <a:xfrm>
            <a:off x="428760" y="3714840"/>
            <a:ext cx="3357360" cy="271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6" name="Picture 10" descr="один в поле не воин1"/>
          <p:cNvPicPr/>
          <p:nvPr/>
        </p:nvPicPr>
        <p:blipFill>
          <a:blip r:embed="rId3"/>
          <a:stretch/>
        </p:blipFill>
        <p:spPr>
          <a:xfrm>
            <a:off x="4857840" y="3786120"/>
            <a:ext cx="4000320" cy="264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мение отказываться от рискованных предложени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идеть положительные и отрицательные стороны явлени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ражать правильно свои чувства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звивать уверенность в себ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правлять своими чувствам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крепление связей с семьё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звивать критическое мышлени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ознание негативных влияний, давлений и манипуляций со стороны други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85680" y="835200"/>
            <a:ext cx="89726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C618-55D6-4A8F-B619-F8A32F292B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2f00c6eae932"/>
          <p:cNvPicPr/>
          <p:nvPr/>
        </p:nvPicPr>
        <p:blipFill>
          <a:blip r:embed="rId1"/>
          <a:stretch/>
        </p:blipFill>
        <p:spPr>
          <a:xfrm>
            <a:off x="5292720" y="1268280"/>
            <a:ext cx="3556080" cy="4343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406" name="Text Box 11"/>
          <p:cNvSpPr/>
          <p:nvPr/>
        </p:nvSpPr>
        <p:spPr>
          <a:xfrm>
            <a:off x="3203640" y="5157720"/>
            <a:ext cx="259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Выбирая богов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мы выбираем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свою судь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                 </a:t>
            </a: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Верги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12"/>
          <p:cNvSpPr txBox="1"/>
          <p:nvPr/>
        </p:nvSpPr>
        <p:spPr>
          <a:xfrm>
            <a:off x="539640" y="620640"/>
            <a:ext cx="5832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0af"/>
                    </a:gs>
                    <a:gs pos="100000">
                      <a:srgbClr val="f2a60e"/>
                    </a:gs>
                  </a:gsLst>
                  <a:lin ang="5400000"/>
                </a:gradFill>
                <a:latin typeface="Tahoma"/>
              </a:rPr>
              <a:t>Мифология Греци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0af"/>
                  </a:gs>
                  <a:gs pos="100000">
                    <a:srgbClr val="f2a60e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028A-2DC7-422D-B7D9-2AEECF2BDD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348000" y="5084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На том месте, где склонилась на траву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голова Нарцисса, вырос белый душистый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Franklin Gothic Book"/>
              </a:rPr>
              <a:t>цветок - цветок смерти, нарциссом зовут его.</a:t>
            </a:r>
            <a:r>
              <a:rPr b="0" lang="ru-RU" sz="1800" spc="-1" strike="noStrike">
                <a:solidFill>
                  <a:srgbClr val="333333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080311170842"/>
          <p:cNvPicPr/>
          <p:nvPr/>
        </p:nvPicPr>
        <p:blipFill>
          <a:blip r:embed="rId1"/>
          <a:stretch/>
        </p:blipFill>
        <p:spPr>
          <a:xfrm>
            <a:off x="3492360" y="1197000"/>
            <a:ext cx="5421600" cy="38178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411" name="WordArt 11"/>
          <p:cNvSpPr txBox="1"/>
          <p:nvPr/>
        </p:nvSpPr>
        <p:spPr>
          <a:xfrm>
            <a:off x="395280" y="620640"/>
            <a:ext cx="5832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0af"/>
                    </a:gs>
                    <a:gs pos="100000">
                      <a:srgbClr val="f2a60e"/>
                    </a:gs>
                  </a:gsLst>
                  <a:lin ang="5400000"/>
                </a:gradFill>
                <a:latin typeface="Tahoma"/>
              </a:rPr>
              <a:t>Смерть - наркозис - Нарцис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0af"/>
                  </a:gs>
                  <a:gs pos="100000">
                    <a:srgbClr val="f2a60e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250920" y="112536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учное название — Narcissus Poeticus. Происходит от греческого слова 'narkao' — </a:t>
            </a:r>
            <a:r>
              <a:rPr b="1" i="1" lang="ru-RU" sz="1800" spc="-1" strike="noStrike">
                <a:solidFill>
                  <a:srgbClr val="006600"/>
                </a:solidFill>
                <a:latin typeface="Franklin Gothic Book"/>
              </a:rPr>
              <a:t>одурманивать, ошеломл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enc_07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284640"/>
            <a:ext cx="1905120" cy="254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58760" y="274680"/>
            <a:ext cx="8845560" cy="5870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 rot="10800000">
            <a:off x="456480" y="6126120"/>
            <a:ext cx="7467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46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Кристина\Рабочий стол\op_011.png"/>
          <p:cNvPicPr/>
          <p:nvPr/>
        </p:nvPicPr>
        <p:blipFill>
          <a:blip r:embed="rId2"/>
          <a:stretch/>
        </p:blipFill>
        <p:spPr>
          <a:xfrm>
            <a:off x="831960" y="1389240"/>
            <a:ext cx="76327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707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Picture 2" descr="C:\Documents and Settings\Кристина\Рабочий стол\op_014.png"/>
          <p:cNvPicPr/>
          <p:nvPr/>
        </p:nvPicPr>
        <p:blipFill>
          <a:blip r:embed="rId1"/>
          <a:stretch/>
        </p:blipFill>
        <p:spPr>
          <a:xfrm>
            <a:off x="117360" y="333360"/>
            <a:ext cx="8656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стояние наркомании характеризуется тремя свойствами: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Непреодолимое желание или потребность продолжать принимать наркотики и доставать их любыми способам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тремление увеличивать доз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Зависимость психического, а иногда и физического характера от воздействия наркотиков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Опиат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Кокаин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Гашиш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Галлюциноген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Антидепрессант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Стимулянт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4A14-7DD8-44A5-AD0D-F6B9D25AC5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4"/>
          <p:cNvSpPr txBox="1"/>
          <p:nvPr/>
        </p:nvSpPr>
        <p:spPr>
          <a:xfrm>
            <a:off x="395280" y="620640"/>
            <a:ext cx="6337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0af"/>
                    </a:gs>
                    <a:gs pos="100000">
                      <a:srgbClr val="f2a60e"/>
                    </a:gs>
                  </a:gsLst>
                  <a:lin ang="5400000"/>
                </a:gradFill>
                <a:latin typeface="Tahoma"/>
              </a:rPr>
              <a:t>Монолог отчаявшейся матер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0af"/>
                  </a:gs>
                  <a:gs pos="100000">
                    <a:srgbClr val="f2a60e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79280" y="11253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« ...И тогда я попросила оставить дочь в тюрьме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" descr="7"/>
          <p:cNvPicPr/>
          <p:nvPr/>
        </p:nvPicPr>
        <p:blipFill>
          <a:blip r:embed="rId1"/>
          <a:stretch/>
        </p:blipFill>
        <p:spPr>
          <a:xfrm>
            <a:off x="3780000" y="1989000"/>
            <a:ext cx="4530600" cy="30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5:32:09Z</dcterms:created>
  <dc:creator>Valued Acer Customer</dc:creator>
  <dc:description/>
  <dc:language>en-US</dc:language>
  <cp:lastModifiedBy>Admin</cp:lastModifiedBy>
  <dcterms:modified xsi:type="dcterms:W3CDTF">2021-02-20T05:48:27Z</dcterms:modified>
  <cp:revision>32</cp:revision>
  <dc:subject/>
  <dc:title>«нет наркотикам!», «Да ! Здоровому образу жизни!»?!</dc:title>
</cp:coreProperties>
</file>